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17DC5-9440-43C5-886C-D96ADDB30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70080" y="392148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C73B-DB4D-412E-ABCA-570166ED0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3900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F3DC-2D00-47E0-A7DD-0777DB0F0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2284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7524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7008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2284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7524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2BF2-7CA6-4124-B188-90D248DE5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A0792-110D-45BD-8BA8-CEC1DB9E7B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5891F-632B-4240-A972-EFE5F11BDA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B73C0-63B8-4C6C-ACC5-4BA74C9048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D8D6A-84F0-4779-A81A-A8A8E7FFBA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9B1ED-3F8C-454A-9032-0F99619872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60000" y="691920"/>
            <a:ext cx="75596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BF086-6817-44C3-97E3-2C6AC2BCA4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64293-8732-409F-B5E2-5FF97067CF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A6B6C-D6B6-4F1C-AA57-069673B17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3900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78E74-C6CC-4DF1-BE45-8D9BA2D0F9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E3931-E4FE-435C-AB69-D5F5FE3AA5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70080" y="392148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BF963-F1B0-49A6-84F9-F0ED982979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3900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A2103-C1DB-476C-8347-898ECC1B42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2284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7524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7008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2284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7524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61BAA-8BEA-4548-B894-340A771483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30932-150E-447D-A0E8-6030ACD6F5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02A6C-7E66-4FF2-9867-452222A861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25E07-E4F8-434A-8A9F-8E6D68A7B0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E443A-1A9E-4620-B583-C2B74D7FF8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E155A-B3A9-43B1-9DA6-5F64D704E5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A852B-3DDC-4408-A55B-C62FBD3C72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60000" y="691920"/>
            <a:ext cx="75596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EEBDE-07D9-4D35-9160-B60B43A215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F0C0E-53D9-47D8-ADE5-CF9E73DEA6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13900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9306F-D87B-4780-981E-8102689FC1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EED10-E8D0-4CB9-85AE-D7DAFE3913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270080" y="392148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F0B20-2A62-4AF0-93DD-8EE90E23B5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13900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151A7-D8A1-4C79-9AFD-DE4EA4405F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82284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75240" y="155736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27008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82284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375240" y="3921480"/>
            <a:ext cx="243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CD32F-E896-440E-A9DE-5DC736E10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2024-FCFB-4ADB-AC82-508E56BFA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2167E-634D-40A0-9659-4A088E294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60000" y="691920"/>
            <a:ext cx="75596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67ED-9292-4A6D-9C3F-90B157210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C046-1827-4FE8-B8A6-C21188BBF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39000" y="392148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D270-05C3-4614-847F-D928AE409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9000" y="1557360"/>
            <a:ext cx="3684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70080" y="3921480"/>
            <a:ext cx="754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E2EF-84E9-48F3-82A4-9C94A06AB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8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108000" y="630828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F261-02FD-4918-A8A7-881B9BDB52CE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15640" y="2852280"/>
            <a:ext cx="755964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1258560" y="4365360"/>
            <a:ext cx="7488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560" indent="-6156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60" indent="-615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61560" indent="-6156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61560" indent="-615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61560" indent="-615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61560" indent="-615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-780120" y="455616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8227"/>
                </a:solidFill>
                <a:latin typeface="Arial"/>
              </a:rPr>
              <a:t>EuroMP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258920" y="5373720"/>
            <a:ext cx="75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</a:t>
            </a:r>
            <a:r>
              <a:rPr b="0" lang="de-DE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925560" y="1965600"/>
            <a:ext cx="287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University of Applied Scien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And Arts - Dortmund -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08000" y="0"/>
            <a:ext cx="828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1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2920" y="6237360"/>
            <a:ext cx="810108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19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2"/>
          </p:nvPr>
        </p:nvSpPr>
        <p:spPr>
          <a:xfrm>
            <a:off x="108000" y="630828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3019-6349-40A4-86F1-C927CDA1681C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1332000" y="6237000"/>
            <a:ext cx="54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eam Building and Leadershi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UROMPM as a Pro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1" marL="363960" indent="-140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2" marL="5598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3" marL="78408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4" marL="10080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5" marL="10080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6" marL="10080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77080" y="6237360"/>
            <a:ext cx="226692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Team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59120" y="13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-780120" y="455616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8227"/>
                </a:solidFill>
                <a:latin typeface="Arial"/>
              </a:rPr>
              <a:t>EuroMP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-945360" y="1957320"/>
            <a:ext cx="29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University of Applied Scien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And Arts – Dortmund -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8000" y="0"/>
            <a:ext cx="828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d822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4"/>
          </p:nvPr>
        </p:nvSpPr>
        <p:spPr>
          <a:xfrm>
            <a:off x="108000" y="630828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B401-4401-49D3-9C91-BE8792DEF626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5"/>
          </p:nvPr>
        </p:nvSpPr>
        <p:spPr>
          <a:xfrm>
            <a:off x="1332000" y="6237000"/>
            <a:ext cx="518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eam Building and Leadershi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EUROMPM as A Pro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88000" y="6237360"/>
            <a:ext cx="226692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Team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780120" y="455616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8227"/>
                </a:solidFill>
                <a:latin typeface="Arial"/>
              </a:rPr>
              <a:t>EuroMP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-945360" y="1945800"/>
            <a:ext cx="29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University of Applied Scien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And Arts – Dortmund -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8000" y="0"/>
            <a:ext cx="828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wirtschaft.fh-dortmund.de/eurompm/Webportal_EuroMPM-Dateien/eurompm20081schedule.html" TargetMode="External"/><Relationship Id="rId2" Type="http://schemas.openxmlformats.org/officeDocument/2006/relationships/hyperlink" Target="http://www.wirtschaft.fh-dortmund.de/eurompm/Webportal_EuroMPM-Dateien/eurompm20081schedule.html" TargetMode="External"/><Relationship Id="rId3" Type="http://schemas.openxmlformats.org/officeDocument/2006/relationships/hyperlink" Target="http://www.wirtschaft.fh-dortmund.de/eurompm/Webportal_EuroMPM-Dateien/eurompm20081schedule.html" TargetMode="External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urompm.net/" TargetMode="External"/><Relationship Id="rId2" Type="http://schemas.openxmlformats.org/officeDocument/2006/relationships/hyperlink" Target="http://www.wikipedia.org/" TargetMode="External"/><Relationship Id="rId3" Type="http://schemas.openxmlformats.org/officeDocument/2006/relationships/hyperlink" Target="http://en.wikipedia.org/wiki/Team_building" TargetMode="External"/><Relationship Id="rId4" Type="http://schemas.openxmlformats.org/officeDocument/2006/relationships/hyperlink" Target="http://en.wikipedia.org/wiki/Project" TargetMode="External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2000" y="4076280"/>
            <a:ext cx="69120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uropean Master In Project Managem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692360" y="515736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Team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476360" y="260280"/>
            <a:ext cx="6985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UROMPM AS A PROJEC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42498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s a Project – Definition Phas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885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tion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ternational Master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heaper Master course study compared with similar Master cou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bit longer compared with other Master cou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opportunities because every students need to spend at least one semester in Partner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interesting general modules and interesting specialization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ses full English, considering that English is really an international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ies to have contact with some expertise from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ing cost in Europe is not so high compared with America as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Master course, because specialize in 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0E5C7-DF63-4A22-A744-CD3263591A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s a Project – Definition Phas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885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tion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uroMPM is focused on the growing demand for project management qualification in all industries as well as in public administ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uroMPM offers an advanced concept to meet the requirements of project management today and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on projects is a core concept of the study course – from small case studies at the beginning of the course up to the integration into professional projects in semester 3 and probably in semesters 4, if the master will be developed embedded in or linked to a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E253B-FA18-41B5-B9E6-B2967E33BB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s a Project – Definition Phas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58560" y="1412640"/>
            <a:ext cx="7561080" cy="5111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keholder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Manag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ter Reusch (Direc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stant Project Manag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no Schönberg (Vice-Direc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m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ctur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Lectur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st Lectur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H Dortm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Univers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MPM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rector and the Vice-Director are members of the international steering committee of the EuroMP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steering group of the EuroMPM consisting of staff and students of the EuroMPM in Dortmund – 4 lecturers including the director and the vice-director and 2 studen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irman of the steering group is the director of the study course or the vice-dir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1F318-F02D-4139-ADB3-9C1FC156C0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s a Project – Definition Phas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561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 on Time (4 Semesters) with good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iar with real work situations (especially in Euro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relationship with new friends from different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relationship with some companies, or some exper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lds us to be better, qualified and certified  project managers of tomo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urage students to get familiar a with project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ble to create, manage and handle simple and complex pro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s us to be familiar with working as a team or an individ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pportunity to study with others from varied backgr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munication, leadership, team building, conflict management and social competencies are core components of the EuroMPM which is emphasiz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BD342-797C-4079-BA85-BFAC80C46C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s a Project – Definition Phas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5761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h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me of the courses will be based on weekly sessions, others will be based on coherent blocks of d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examinations will be organized by the teaching staff – brought into agreement with the examination boa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exchange to and from other partners of the consortium will be coordinated by the director or vice-director of the study course – supported by organizational staf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rules for the exchange of students will by established and enhanced by the steering committee of the consort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eering committee will also develop new strategies and concepts for the EuroM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020000" y="2133720"/>
          <a:ext cx="1917720" cy="29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2133720"/>
                    <a:ext cx="191772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945ED-1828-4EE2-B79C-209F6BE601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s a Project – Definition Phas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561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h Breakdown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835280" y="2276640"/>
          <a:ext cx="626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76640"/>
                    <a:ext cx="626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6D5E8-5377-4231-A5E2-84808F1659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s a Project – Definition Phas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561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important information on EuroMPM web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n Open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Seminar/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955B0-CD8E-49BB-B5A7-E6E2AFEB4C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s a Project – Planning Phas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561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476360" y="2349360"/>
          <a:ext cx="734364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349360"/>
                    <a:ext cx="7343640" cy="35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0551B-0318-4983-A930-1CCD21DAC5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s a Project – Planning Phas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561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ample weekly schedul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uroMPM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planning from 1 Semester – 4 Sem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403280" y="2708280"/>
          <a:ext cx="7056360" cy="3289320"/>
        </p:xfrm>
        <a:graphic>
          <a:graphicData uri="http://schemas.openxmlformats.org/drawingml/2006/table">
            <a:tbl>
              <a:tblPr/>
              <a:tblGrid>
                <a:gridCol w="1656000"/>
                <a:gridCol w="5400360"/>
              </a:tblGrid>
              <a:tr h="380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D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MESTER EXA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16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R SEMESTER (BEGINN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SEMESTER EXA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MESTER (BEGENNING) AT A PARTNER UNIVER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15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MESTER (FINAL THESIS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20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CLOS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297A5-5D04-4120-BA38-682F29AAEB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s a Project – Planning Phas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561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79640" y="2565360"/>
            <a:ext cx="1584360" cy="10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30D8E-CDE6-4B68-89D9-F64E05CF8A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55964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a19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02920" y="1773360"/>
            <a:ext cx="74898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uroMPM at glance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uroMPM as a Project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rrelation with Team Building and Leadership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1B2D2-C6FF-4F68-AAF2-B8D6948CB8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s a Project – Planning Phas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561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attendance in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ies to cover th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of stopping studies for various reas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mily ma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focus in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balance tim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mily ma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91A2A-C4DB-465E-97BA-FC55D3E291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d8227"/>
                </a:solidFill>
                <a:latin typeface="Arial"/>
              </a:rPr>
              <a:t>EuroMPM as a Project – Realisation Phase</a:t>
            </a:r>
            <a:endParaRPr b="1" lang="en-US" sz="26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70580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some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mo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ing 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modules and standards (PM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PM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mo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th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ery Sem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ar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m 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cturer        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udents       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03640" y="566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3640" y="5950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9AD44-1FB8-44E3-87C7-2166741DF7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d8227"/>
                </a:solidFill>
                <a:latin typeface="Arial"/>
              </a:rPr>
              <a:t>EuroMPM as a Project – Realisation Phase</a:t>
            </a:r>
            <a:endParaRPr b="1" lang="en-US" sz="26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70580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ing &amp;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special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83783-6FEB-46B3-8D18-EF83A9A7A4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s a Project – Closing Phas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70580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Clo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of Semest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tudents gradu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on lea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all docu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 from mistak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5014F-097B-4C89-A6B1-B4CA946A4E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d8227"/>
                </a:solidFill>
                <a:latin typeface="Arial"/>
              </a:rPr>
              <a:t>Correlation with Team Building &amp; Leadership</a:t>
            </a:r>
            <a:endParaRPr b="1" lang="en-US" sz="26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70580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58920" y="1628640"/>
            <a:ext cx="7885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Building and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m build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enerally refers to the selection, development, and collective motivation of result-oriented t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ership has been described as the “process of social influence in which one person is able to enlist the aid and support of others in the accomplishment of a common task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lation between EuroMPM &amp; Team Building and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ject need a leader, in specifically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ood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only need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ood lea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 also need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good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eam Building and Leadership we deal with how to be a good leader, how to build a good and solid te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Project we deal how to create, manage, and handle a Project. In order to do that, one of that we need Team Building and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44160" y="5996160"/>
            <a:ext cx="251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en.wikipedia.org/wiki/Team_buil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FD0C1-9E69-4B69-A8FF-49158B9EB7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d8227"/>
                </a:solidFill>
                <a:latin typeface="Arial"/>
              </a:rPr>
              <a:t>Correlation with Team Building &amp; Leadership</a:t>
            </a:r>
            <a:endParaRPr b="1" lang="en-US" sz="26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70580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58920" y="1628640"/>
            <a:ext cx="7885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correlation between EuroMPM &amp; Team Building and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as team members from EuroM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learn how to create such good communication, good relationship, between Lecturer and Students, and also between Students and other 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learn how to work in a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learn to appreciate other people’s opi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as a leader for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learn how to manage all our tas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manage how to share our time, so we know when we need to study, when we need to do other el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learn how to handle when we have a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439A7-6662-4DC2-A653-290D892516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d8227"/>
                </a:solidFill>
                <a:latin typeface="Arial"/>
              </a:rPr>
              <a:t>Correlation with Team Building &amp; Leadership</a:t>
            </a:r>
            <a:endParaRPr b="1" lang="en-US" sz="26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70580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1628640"/>
            <a:ext cx="7885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MPM need a leader especially a good Leader, so EuroMPM will achieved their goals. In order to do that, EuroMPM also need a team work, from all stakeholders. In other situation we as students also become a leader for oursel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eam Building and Leadership we learn to contribute something for EuroMPM to create such a good and solid team work, and also learn to become such a good leader for our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eam Building and Leadership we also learn about human behavior, like how we treat  our staff or how to deal when there is a problem with our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ourse we also need another part so we can really achieve our EuroMPM go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08CBD-5A09-4CC6-96F6-33DF450650E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d8227"/>
                </a:solidFill>
                <a:latin typeface="Arial"/>
              </a:rPr>
              <a:t>Correlation with Team Building &amp; Leadership</a:t>
            </a:r>
            <a:endParaRPr b="1" lang="en-US" sz="26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70580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1628640"/>
            <a:ext cx="7885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Building and Leadership components in EuroM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ab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of work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ing skill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12409-9BD6-4C23-8BC7-39D4DD8D21E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d8227"/>
                </a:solidFill>
                <a:latin typeface="Arial"/>
              </a:rPr>
              <a:t>Correlation with Team Building &amp; Leadership</a:t>
            </a:r>
            <a:endParaRPr b="1" lang="en-US" sz="26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70580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58920" y="1628640"/>
            <a:ext cx="7885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Team Building and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 Self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edback (current strength as a team &amp; weaknes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 Self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am uses feedback from the team assessment in order to identify any gap between the desired state and the actual state and to develop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A2F5E-4A7F-4D95-9A3D-DC08C2EB51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70580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58920" y="1628640"/>
            <a:ext cx="7885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create, handle, and manage a good Project we need to know and learn about Team Building and Leader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Building and Leadership teaches us to be better person in context our relationship with other people. No matter whether that person is our Supervisor or our Staf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Building and Leadership teaches us how to handle and solve proble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B48F5-178C-4A26-ABA8-164ADB56B07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Introduction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0080" y="1557360"/>
            <a:ext cx="7478640" cy="424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 of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s defined in the field of project management, consists a temporary endeavor undertaken to create a unique product, service or resul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re is start point and en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mited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22520" y="6093000"/>
            <a:ext cx="208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en.wikipedia.org/wiki/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CD791-2A69-4D7A-BB98-B9A654AA4B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References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70580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58920" y="3213000"/>
            <a:ext cx="7885080" cy="23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rompm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Team_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en.wikipedia.org/wiki/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42AA0-A00A-45C9-AA38-6B3321C5B08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227628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1562040" cy="609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771640" y="2349360"/>
            <a:ext cx="1133640" cy="657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780000" y="3068640"/>
            <a:ext cx="1438200" cy="809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5076720" y="4076640"/>
            <a:ext cx="1629000" cy="7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91764-6840-407F-ADBF-63A119F0A28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t glanc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58560" y="1628640"/>
            <a:ext cx="7561080" cy="439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ed in 2005 in NTNU Trondheim, and 2006 in FH Dortm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onsortium Program between some Universities in Euro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ster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 ECTS (European Credit Transfer and Accumulation System) (Total 3600 hou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offered for graduates from Business Administration, Business Computing or similar study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Semesters (3 semesters in home University, 1 semester in Partner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L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in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ctice (Self, Team Work, and Simul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essional experience  (Site Visit, Excurs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70417-8F7C-4C16-9470-FA54CCD71F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t glanc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8560" y="1628640"/>
            <a:ext cx="7561080" cy="439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EuroMPM in FH Dortmund  is a full time study course (2 years program course devided in 4 sems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 core concept of the EuroMPM is that students start at one institution within the consortium and spend at least one semester at one of the partner institutions within the consort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t all universities offering the EuroMPM, the learning outcomes from Semesters 1 and 2 are the same. Students are free to study Semesters 1 and 2 at any of the partner institu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t Semester 3, partner universities offer modules reflecting the specialization of the individual institution and the local indust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t semester 4 the students will write the master 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7D6FD-980A-452F-97F8-D3A86F69B4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t glanc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8560" y="1628640"/>
            <a:ext cx="7561080" cy="439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u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 Main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sentials of Project Manag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blish Teams and Organiz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, Managing Change and Crea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, Finance and Contracts - and Advanced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 Specialization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Management for IT-Projects (Trondhei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(Trondhei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Management in Logistics (Zaragoz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ject (Zaragoz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Management and Quality Management  (Bilba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ject on Quality Management (Bilba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24720" y="5300640"/>
            <a:ext cx="914400" cy="71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B1BB8-B6B1-452E-A65F-0220E27F13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t glanc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561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reate graduated students to be an ideal International Project Mana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reate graduated students familiar with real work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ation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 % based on contribution in the cour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 % based on written final 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time (120 EC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time (90 EC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Sem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day October (Winter Semester) (Admission only in W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 March (Summer Seme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71988-1C40-4885-95E8-E7AD66BDF1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t glance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561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uroMPM-version applies various teaching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ctures are mostly used to introduce concepts, methods and t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work is applied to work on case studies and to collect and present resul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 work is applied to deal with selected topics and to prepare present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88480-BD39-43F7-A853-A1B1404B38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704360" cy="649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d8227"/>
                </a:solidFill>
                <a:latin typeface="Arial"/>
              </a:rPr>
              <a:t>EuroMPM as a Project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5610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 July 20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Students + 5 Main Lecturers + Some Guest Lectu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many Countries from (Asia, Europe, Afr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ing: Title of th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2CF9F-8BB4-46D3-9076-55ED9EAEE6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9T11:28:58Z</dcterms:created>
  <dc:creator>Fachbereich Wirtschaft</dc:creator>
  <dc:description/>
  <dc:language>en-US</dc:language>
  <cp:lastModifiedBy>Student FB Wirtschaft</cp:lastModifiedBy>
  <dcterms:modified xsi:type="dcterms:W3CDTF">2008-12-02T09:20:53Z</dcterms:modified>
  <cp:revision>52</cp:revision>
  <dc:subject/>
  <dc:title>Simulation Methods and Educational Educational Games for Project Management</dc:title>
</cp:coreProperties>
</file>